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11160" y="765000"/>
            <a:ext cx="4903920" cy="367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90000" tIns="0" bIns="46800" anchor="ctr">
            <a:noAutofit/>
          </a:bodyPr>
          <a:p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hdr"/>
          </p:nvPr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1"/>
          </p:nvPr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840" y="4673160"/>
            <a:ext cx="4888080" cy="44420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831D71A-40CB-449D-A90F-667C9E0DE93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942BC61-3290-450E-891D-FEA52FFAAD0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B09D00A-A8F5-465E-84E0-2013BAA43D1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53080"/>
            <a:ext cx="7391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duct Status Report Neo, October, 24th,  200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1D9451E1-E47A-4D40-AE43-FAF9ACEA7F0E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722360" y="6519960"/>
            <a:ext cx="1119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dd3a07"/>
                </a:solidFill>
                <a:latin typeface="Arial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lnSpc>
                <a:spcPts val="22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3" marL="1676520" indent="-23976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–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4" marL="2155680" indent="-23940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»"/>
              <a:tabLst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5" marL="2155680" indent="-239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6" marL="2155680" indent="-239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9480" y="2971800"/>
            <a:ext cx="6324840" cy="971640"/>
          </a:xfrm>
          <a:prstGeom prst="rect">
            <a:avLst/>
          </a:prstGeom>
        </p:spPr>
        <p:txBody>
          <a:bodyPr wrap="none" lIns="0" rIns="90000" tIns="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nagement Summar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560520" y="4254480"/>
            <a:ext cx="4260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11.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estone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-P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. Schmi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.-J.Frey, H-M. Mues-H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-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. Köhler, H. Bös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-BA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. K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 Hir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8720" y="1371600"/>
            <a:ext cx="609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19051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01000" y="19051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01000" y="1447920"/>
            <a:ext cx="304920" cy="304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362320"/>
            <a:ext cx="304920" cy="304560"/>
          </a:xfrm>
          <a:prstGeom prst="ellipse">
            <a:avLst/>
          </a:prstGeom>
          <a:solidFill>
            <a:srgbClr val="0ac9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8280" y="25560"/>
            <a:ext cx="69213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t Status Report Neo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33520" y="1244520"/>
            <a:ext cx="3504960" cy="1041480"/>
          </a:xfrm>
          <a:prstGeom prst="roundRect">
            <a:avLst>
              <a:gd name="adj" fmla="val 6097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5440" y="1255680"/>
            <a:ext cx="33670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osition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iness/Reference-Clas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X-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Target Group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Cosmopolitan Net 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le &gt;&gt; Female, 25-40 years, high income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profession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&amp; private u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33520" y="4719600"/>
            <a:ext cx="6642000" cy="1757520"/>
            <a:chOff x="533520" y="4719600"/>
            <a:chExt cx="6642000" cy="1757520"/>
          </a:xfrm>
        </p:grpSpPr>
        <p:sp>
          <p:nvSpPr>
            <p:cNvPr id="214" name=""/>
            <p:cNvSpPr/>
            <p:nvPr/>
          </p:nvSpPr>
          <p:spPr>
            <a:xfrm>
              <a:off x="533520" y="5004000"/>
              <a:ext cx="6642000" cy="1473120"/>
            </a:xfrm>
            <a:prstGeom prst="roundRect">
              <a:avLst>
                <a:gd name="adj" fmla="val 5282"/>
              </a:avLst>
            </a:prstGeom>
            <a:solidFill>
              <a:srgbClr val="cad9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8040" y="5069160"/>
              <a:ext cx="3362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224"/>
                </a:spcBef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06960" y="5069160"/>
              <a:ext cx="244152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275"/>
                </a:spcBef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08680" y="500400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8040" y="4719600"/>
              <a:ext cx="1836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96880" y="5046840"/>
            <a:ext cx="7121520" cy="609480"/>
            <a:chOff x="596880" y="5046840"/>
            <a:chExt cx="7121520" cy="609480"/>
          </a:xfrm>
        </p:grpSpPr>
        <p:sp>
          <p:nvSpPr>
            <p:cNvPr id="220" name=""/>
            <p:cNvSpPr/>
            <p:nvPr/>
          </p:nvSpPr>
          <p:spPr>
            <a:xfrm>
              <a:off x="596880" y="5046840"/>
              <a:ext cx="3527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ifferentiation to MP product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roduct / design concept (messaging device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91120" y="5046840"/>
              <a:ext cx="3527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ifferentiation to Competition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roduct / design concept </a:t>
              </a:r>
              <a:br>
                <a:rPr sz="1300"/>
              </a:b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(messaging device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114800" y="1244520"/>
            <a:ext cx="3443400" cy="1041480"/>
            <a:chOff x="4114800" y="1244520"/>
            <a:chExt cx="3443400" cy="1041480"/>
          </a:xfrm>
        </p:grpSpPr>
        <p:sp>
          <p:nvSpPr>
            <p:cNvPr id="223" name=""/>
            <p:cNvSpPr/>
            <p:nvPr/>
          </p:nvSpPr>
          <p:spPr>
            <a:xfrm>
              <a:off x="4114800" y="1244520"/>
              <a:ext cx="3048120" cy="1041480"/>
            </a:xfrm>
            <a:prstGeom prst="roundRect">
              <a:avLst>
                <a:gd name="adj" fmla="val 6097"/>
              </a:avLst>
            </a:prstGeom>
            <a:solidFill>
              <a:srgbClr val="cad9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91120" y="1295640"/>
              <a:ext cx="336708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usines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3 xx, LC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x month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Volume over LC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.7 Mi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BIT p.u. Target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xx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114800" y="2414520"/>
            <a:ext cx="3051000" cy="1230480"/>
          </a:xfrm>
          <a:prstGeom prst="roundRect">
            <a:avLst>
              <a:gd name="adj" fmla="val 4731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14800" y="3645000"/>
            <a:ext cx="3051000" cy="1230120"/>
          </a:xfrm>
          <a:prstGeom prst="roundRect">
            <a:avLst>
              <a:gd name="adj" fmla="val 4731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2414520"/>
            <a:ext cx="3708360" cy="2449440"/>
          </a:xfrm>
          <a:custGeom>
            <a:avLst/>
            <a:gdLst>
              <a:gd name="textAreaLeft" fmla="*/ 0 w 3708360"/>
              <a:gd name="textAreaRight" fmla="*/ 3708720 w 3708360"/>
              <a:gd name="textAreaTop" fmla="*/ 0 h 2449440"/>
              <a:gd name="textAreaBottom" fmla="*/ 2449440 h 24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79" y="0"/>
                </a:lnTo>
                <a:lnTo>
                  <a:pt x="21600" y="10800"/>
                </a:lnTo>
                <a:lnTo>
                  <a:pt x="192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67080" y="2414520"/>
            <a:ext cx="28195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ey end user 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novative &amp; elegant design combining functionality and aesthetic in a surprising w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ast &amp; easy text inp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6880" y="2428920"/>
            <a:ext cx="32130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Key characteristic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QWERTY Keyp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Key characteristic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que messaging device offering an innovative design merging phone &amp; keyp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364824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ey operator 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ull range of messaging services (SMS, MMS, e-mail, IM, PT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oduct Profile Neo </a:t>
            </a:r>
            <a:br>
              <a:rPr sz="2800"/>
            </a:b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7585200" y="2365200"/>
            <a:ext cx="1393560" cy="2643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4160" y="-3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Feature comparis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enelope platform    versus   Series 60 platform ( 2.0 / 1.2 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1117440"/>
            <a:ext cx="2795760" cy="3911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8a4c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1104840"/>
            <a:ext cx="3504960" cy="3898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8a4c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1098720"/>
            <a:ext cx="384948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Penelo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ava: MIDP 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RM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OMA Standard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S: Releas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Photo album, </a:t>
            </a:r>
            <a:br>
              <a:rPr sz="1400"/>
            </a:b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 photo editor, </a:t>
            </a:r>
            <a:br>
              <a:rPr sz="1400"/>
            </a:b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Video play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AP 2.0 Dual 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yncML 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PDP contex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rabic and Hebr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UI custo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00600" y="5157720"/>
            <a:ext cx="5091120" cy="1295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8a4c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16880" y="5415120"/>
            <a:ext cx="162972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WERTY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-G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ixel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9” display 256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5157720"/>
            <a:ext cx="3504960" cy="1295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8a4c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2600" y="5427720"/>
            <a:ext cx="162972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WERTY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ixel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5” Penelop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display 64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1360" y="5110200"/>
            <a:ext cx="2367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Product highlight featur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39840" y="5135400"/>
            <a:ext cx="2367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Product highlight featur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38440" y="1600200"/>
            <a:ext cx="94248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Suppor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12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RC-MM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12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Rel 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21120" y="1111320"/>
            <a:ext cx="260820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Series 60 2.0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ymbian OS 7.0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ava: MIDP 2.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RM 1S (improv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S: SMIL enhancem.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and ed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MF (Multimedia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Framewor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dia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player and </a:t>
            </a:r>
            <a:br>
              <a:rPr sz="1400"/>
            </a:b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 Media gall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AP 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yncML 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PDP contex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(email push and PT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rabic and Hebr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I customization (skinn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allet 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66560" y="5181480"/>
            <a:ext cx="10980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No suppor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12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IPv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12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Rel 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2080" y="5181480"/>
            <a:ext cx="111168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No suppor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12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IPv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12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Under eval.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12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A-G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1130400"/>
            <a:ext cx="2210040" cy="3898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8a4c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1123920"/>
            <a:ext cx="22096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Series 60 1.2 featur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ymbian OS 6.1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ava: MIDP 1.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RM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mandatory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forward lo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dia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dia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player and </a:t>
            </a:r>
            <a:br>
              <a:rPr sz="1400"/>
            </a:b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 photo alb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AP 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yncML 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1960" y="2026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eo based on Series 60 / Penelop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54160" y="1219320"/>
          <a:ext cx="8432640" cy="5102280"/>
        </p:xfrm>
        <a:graphic>
          <a:graphicData uri="http://schemas.openxmlformats.org/drawingml/2006/table">
            <a:tbl>
              <a:tblPr/>
              <a:tblGrid>
                <a:gridCol w="1879560"/>
                <a:gridCol w="2361960"/>
                <a:gridCol w="2362320"/>
                <a:gridCol w="1828800"/>
              </a:tblGrid>
              <a:tr h="710280"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8a4c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 with Series 60 2.0</a:t>
                      </a:r>
                      <a:br>
                        <a:rPr sz="1600"/>
                      </a:b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as plann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8a4c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 with Series 60 1.2</a:t>
                      </a:r>
                      <a:br>
                        <a:rPr sz="1600"/>
                      </a:b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ith OMAP3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8a4c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el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8a4c0"/>
                        </a:gs>
                      </a:gsLst>
                      <a:lin ang="5400000"/>
                    </a:gradFill>
                  </a:tcPr>
                </a:tc>
              </a:tr>
              <a:tr h="791280"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 A-GP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br>
                        <a:rPr sz="1400"/>
                      </a:b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enc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920"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&amp;D direct 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 A-GP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3 Mio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Mio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6 Mio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ithout software platform cos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laun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 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dence lev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Project tea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4280" y="3699000"/>
            <a:ext cx="8780760" cy="583920"/>
          </a:xfrm>
          <a:prstGeom prst="rect">
            <a:avLst/>
          </a:prstGeom>
          <a:solidFill>
            <a:srgbClr val="004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268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4840" y="171360"/>
            <a:ext cx="73166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eo Financial Scen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840" y="5146560"/>
            <a:ext cx="8751960" cy="584280"/>
          </a:xfrm>
          <a:prstGeom prst="rect">
            <a:avLst/>
          </a:prstGeom>
          <a:solidFill>
            <a:srgbClr val="004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840" y="4402080"/>
            <a:ext cx="8751960" cy="584280"/>
          </a:xfrm>
          <a:prstGeom prst="rect">
            <a:avLst/>
          </a:prstGeom>
          <a:solidFill>
            <a:srgbClr val="004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840" y="3159000"/>
            <a:ext cx="8751960" cy="414360"/>
          </a:xfrm>
          <a:prstGeom prst="rect">
            <a:avLst/>
          </a:prstGeom>
          <a:solidFill>
            <a:srgbClr val="004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840" y="2660760"/>
            <a:ext cx="8751960" cy="414360"/>
          </a:xfrm>
          <a:prstGeom prst="rect">
            <a:avLst/>
          </a:prstGeom>
          <a:solidFill>
            <a:srgbClr val="004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840" y="2114640"/>
            <a:ext cx="8751960" cy="414360"/>
          </a:xfrm>
          <a:prstGeom prst="rect">
            <a:avLst/>
          </a:prstGeom>
          <a:solidFill>
            <a:srgbClr val="004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80" y="2060640"/>
            <a:ext cx="1365120" cy="36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hip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urn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K estim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ross Mar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% of T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% of T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54320" y="1781280"/>
            <a:ext cx="698400" cy="424656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4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’1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3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8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’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83240" y="1773360"/>
            <a:ext cx="719280" cy="424656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4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’0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2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58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8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12’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1080" y="1044720"/>
            <a:ext cx="10792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2b5d"/>
                </a:solidFill>
                <a:latin typeface="Arial"/>
              </a:rPr>
              <a:t>M Units/ M Eu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25800" y="1781280"/>
            <a:ext cx="695520" cy="424656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5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2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24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8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9’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1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89440" y="1781280"/>
            <a:ext cx="720720" cy="424656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3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1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95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8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68’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18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8760" y="6246720"/>
            <a:ext cx="8663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*) For LC EBIT calculation 9‘2 €  direct and indirect R&amp;D efforts Neo in FY 02/03 are taken into account in all three scen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33440" y="1801800"/>
            <a:ext cx="863640" cy="4246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3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6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2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19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79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6’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3,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52200" y="1773360"/>
            <a:ext cx="656280" cy="424656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4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’3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54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7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0’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69560" y="1773360"/>
            <a:ext cx="656280" cy="424656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3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9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7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18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6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45080" y="1053720"/>
            <a:ext cx="2232360" cy="65628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eo on Penel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(09/04 – 12/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62440" y="1052280"/>
            <a:ext cx="1540080" cy="65628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eo on SX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(09/04 – 08/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41440" y="1052280"/>
            <a:ext cx="2303640" cy="65628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eo as of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(01/05-12/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3440" y="1052280"/>
            <a:ext cx="863640" cy="656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Bud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IX/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89440" y="252360"/>
            <a:ext cx="1828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rst / rough  estimation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61080" y="189000"/>
            <a:ext cx="172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32280" y="907920"/>
            <a:ext cx="172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4600" y="1773360"/>
            <a:ext cx="656280" cy="424656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5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2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2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7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1’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10200" y="1773360"/>
            <a:ext cx="656280" cy="424656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3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0,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89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01800" y="5734080"/>
            <a:ext cx="1584360" cy="503280"/>
          </a:xfrm>
          <a:prstGeom prst="ellipse">
            <a:avLst/>
          </a:prstGeom>
          <a:solidFill>
            <a:srgbClr val="ffd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-103‘4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18160" y="5734080"/>
            <a:ext cx="1584360" cy="503280"/>
          </a:xfrm>
          <a:prstGeom prst="ellipse">
            <a:avLst/>
          </a:prstGeom>
          <a:solidFill>
            <a:srgbClr val="ffd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-90‘5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75560" y="5734080"/>
            <a:ext cx="1584360" cy="503280"/>
          </a:xfrm>
          <a:prstGeom prst="ellipse">
            <a:avLst/>
          </a:prstGeom>
          <a:solidFill>
            <a:srgbClr val="ffd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10‘5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60" y="5727600"/>
            <a:ext cx="1047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LC EBIT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1960" y="2026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eo deci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760" y="1189080"/>
            <a:ext cx="6959520" cy="59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500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Based on the scenarios it was strongly recommended from Rea Team on the 3.11.03 to switch to the proprietary platform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spcBef>
                <a:spcPts val="1500"/>
              </a:spcBef>
              <a:buClr>
                <a:srgbClr val="002b5d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EBIT over 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spcBef>
                <a:spcPts val="1500"/>
              </a:spcBef>
              <a:buClr>
                <a:srgbClr val="002b5d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Rel99 and feature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spcBef>
                <a:spcPts val="1500"/>
              </a:spcBef>
              <a:buClr>
                <a:srgbClr val="002b5d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TTM (launch target 9/04 with 100k un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Wingdings"/>
                <a:ea typeface="Wingdings"/>
              </a:rPr>
              <a:t>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complete rework of mechanics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spcBef>
                <a:spcPts val="1500"/>
              </a:spcBef>
              <a:buClr>
                <a:srgbClr val="002b5d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No A-GPS; No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spcBef>
                <a:spcPts val="1500"/>
              </a:spcBef>
              <a:buClr>
                <a:srgbClr val="002b5d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No S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Wingdings"/>
                <a:ea typeface="Wingdings"/>
              </a:rPr>
              <a:t>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No Camera; No memory card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500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Agreed with and supported from Sales and S&amp;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500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Agreed from MP-board on 4.1..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roduct Status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556272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1600200"/>
            <a:ext cx="218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/Market 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611440"/>
            <a:ext cx="17496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358128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457200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276720" y="2421000"/>
            <a:ext cx="4876560" cy="828360"/>
            <a:chOff x="3276720" y="2421000"/>
            <a:chExt cx="4876560" cy="828360"/>
          </a:xfrm>
        </p:grpSpPr>
        <p:sp>
          <p:nvSpPr>
            <p:cNvPr id="159" name=""/>
            <p:cNvSpPr/>
            <p:nvPr/>
          </p:nvSpPr>
          <p:spPr>
            <a:xfrm>
              <a:off x="3276720" y="242100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12720" y="242100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usiness case pos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327480" y="4702320"/>
            <a:ext cx="4876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65760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85920" y="37069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98680" y="37069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11440" y="3706920"/>
            <a:ext cx="128520" cy="125280"/>
          </a:xfrm>
          <a:prstGeom prst="ellipse">
            <a:avLst/>
          </a:prstGeom>
          <a:solidFill>
            <a:srgbClr val="0ac9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464832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85920" y="4697280"/>
            <a:ext cx="128520" cy="12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98680" y="469728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11440" y="4697280"/>
            <a:ext cx="128520" cy="125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563868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85920" y="5688000"/>
            <a:ext cx="128520" cy="12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98680" y="56880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11440" y="5688000"/>
            <a:ext cx="128520" cy="125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276720" y="1447920"/>
            <a:ext cx="4876560" cy="828360"/>
            <a:chOff x="3276720" y="1447920"/>
            <a:chExt cx="4876560" cy="828360"/>
          </a:xfrm>
        </p:grpSpPr>
        <p:sp>
          <p:nvSpPr>
            <p:cNvPr id="175" name=""/>
            <p:cNvSpPr/>
            <p:nvPr/>
          </p:nvSpPr>
          <p:spPr>
            <a:xfrm>
              <a:off x="3276720" y="144792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12720" y="144792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aunch in 9/04 with 100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C 1,7 M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276720" y="3395520"/>
            <a:ext cx="4876560" cy="828360"/>
            <a:chOff x="3276720" y="3395520"/>
            <a:chExt cx="4876560" cy="828360"/>
          </a:xfrm>
        </p:grpSpPr>
        <p:sp>
          <p:nvSpPr>
            <p:cNvPr id="178" name=""/>
            <p:cNvSpPr/>
            <p:nvPr/>
          </p:nvSpPr>
          <p:spPr>
            <a:xfrm>
              <a:off x="3276720" y="339552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2720" y="339552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Key features: QWERTY-Keyboard, high value design -&gt; Messaging de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o Camera; No MMC slot; No A-GPS; No W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276720" y="4368960"/>
            <a:ext cx="4876560" cy="828000"/>
            <a:chOff x="3276720" y="4368960"/>
            <a:chExt cx="4876560" cy="828000"/>
          </a:xfrm>
        </p:grpSpPr>
        <p:sp>
          <p:nvSpPr>
            <p:cNvPr id="181" name=""/>
            <p:cNvSpPr/>
            <p:nvPr/>
          </p:nvSpPr>
          <p:spPr>
            <a:xfrm>
              <a:off x="3276720" y="4368960"/>
              <a:ext cx="4876560" cy="828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12720" y="4368960"/>
              <a:ext cx="482580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F Connector in ag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276720" y="5343480"/>
            <a:ext cx="4876560" cy="828360"/>
            <a:chOff x="3276720" y="5343480"/>
            <a:chExt cx="4876560" cy="828360"/>
          </a:xfrm>
        </p:grpSpPr>
        <p:sp>
          <p:nvSpPr>
            <p:cNvPr id="184" name=""/>
            <p:cNvSpPr/>
            <p:nvPr/>
          </p:nvSpPr>
          <p:spPr>
            <a:xfrm>
              <a:off x="3276720" y="534348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2720" y="534348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124080" y="1066680"/>
            <a:ext cx="54104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us and major changes (regarding last milesto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07520" y="6248520"/>
            <a:ext cx="676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alw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20760" y="2641680"/>
            <a:ext cx="6526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73320" y="269064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86080" y="269064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8840" y="2690640"/>
            <a:ext cx="128520" cy="125640"/>
          </a:xfrm>
          <a:prstGeom prst="ellipse">
            <a:avLst/>
          </a:prstGeom>
          <a:solidFill>
            <a:srgbClr val="0ac9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20760" y="1727280"/>
            <a:ext cx="6526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73320" y="177624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86080" y="177624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98840" y="1776240"/>
            <a:ext cx="128520" cy="125640"/>
          </a:xfrm>
          <a:prstGeom prst="ellipse">
            <a:avLst/>
          </a:prstGeom>
          <a:solidFill>
            <a:srgbClr val="0ac9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291960" y="1092240"/>
          <a:ext cx="8115480" cy="5765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960" y="1092240"/>
                    <a:ext cx="811548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 flipV="1">
            <a:off x="825480" y="1262160"/>
            <a:ext cx="7162920" cy="494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TA Project Neo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53000" y="374328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1960" y="977760"/>
            <a:ext cx="1095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me pla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488600">
            <a:off x="378000" y="2906280"/>
            <a:ext cx="739620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0000"/>
                </a:solidFill>
                <a:latin typeface="Arial"/>
              </a:rPr>
              <a:t>To be updated for 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50600" y="3200040"/>
            <a:ext cx="321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o R&amp;D effort / cost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04920" y="1008000"/>
          <a:ext cx="7696080" cy="5545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008000"/>
                    <a:ext cx="76960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2T13:52:17Z</dcterms:created>
  <dc:creator>Mues-Hane</dc:creator>
  <dc:description/>
  <dc:language>en-US</dc:language>
  <cp:lastModifiedBy>Jürgen Schmitz</cp:lastModifiedBy>
  <cp:lastPrinted>2002-11-05T09:45:05Z</cp:lastPrinted>
  <dcterms:modified xsi:type="dcterms:W3CDTF">2003-11-06T13:15:32Z</dcterms:modified>
  <cp:revision>534</cp:revision>
  <dc:subject/>
  <dc:title>Template Project Status Review</dc:title>
</cp:coreProperties>
</file>